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gif" ContentType="image/gif"/>
  <Override PartName="/ppt/media/image39.png" ContentType="image/png"/>
  <Override PartName="/ppt/media/image12.jpeg" ContentType="image/jpe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FB4-CE52-42EF-ACFA-356C508E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186-C9BE-4986-BB2C-9FB206DB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ADA-0E63-49D5-AFB7-6E9C72D2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A1A-6798-4114-95FD-80191B0F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4990-1976-4FF9-B0C8-A3E22B58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E48D-31C9-4D30-B2FB-85240A02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C1C3-0D60-46A8-866E-78E792A4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1897-FFC4-4CDD-BF82-1D622B38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63A5-3686-403A-AD71-C075B88C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D56D-FF63-4FE8-B76D-90257CA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BD23-947B-4947-9C92-276D3E0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74E-FDE5-4CF0-8CCB-07322881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BAE7-501C-4D79-B604-DFDD911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0041-CF6B-4E93-9D71-E9573D5C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E3E9-BA44-4B06-8225-39143C6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10FE-072C-45D9-852E-7A7C49EA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2C0B-27D7-4E72-9E41-A26E0A51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752-1CA5-4C1D-8204-AD23344A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6DA-9C2E-418B-A094-D27A9DC7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71D-2BC1-4956-8D37-B461E930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4AA-F9A8-465B-BE94-020EF898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569-F538-4ECF-8ADB-E62C5AD4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613-0EBD-4663-BC01-F1FD4A2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684-8176-4260-8801-BF3546FB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317160"/>
                      <a:gd name="textAreaBottom" fmla="*/ 317520 h 317160"/>
                    </a:gdLst>
                    <a:ahLst/>
                    <a:rect l="textAreaLeft" t="textAreaTop" r="textAreaRight" b="textAreaBottom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>
                      <a:gd name="textAreaLeft" fmla="*/ 0 w 231840"/>
                      <a:gd name="textAreaRight" fmla="*/ 232200 w 23184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7360"/>
                      <a:gd name="textAreaBottom" fmla="*/ 117720 h 117360"/>
                    </a:gdLst>
                    <a:ahLst/>
                    <a:rect l="textAreaLeft" t="textAreaTop" r="textAreaRight" b="textAreaBottom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>
                      <a:gd name="textAreaLeft" fmla="*/ 0 w 85680"/>
                      <a:gd name="textAreaRight" fmla="*/ 85680 w 856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38240"/>
                      <a:gd name="textAreaBottom" fmla="*/ 138240 h 138240"/>
                    </a:gdLst>
                    <a:ahLst/>
                    <a:rect l="textAreaLeft" t="textAreaTop" r="textAreaRight" b="textAreaBottom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>
                    <a:gd name="textAreaLeft" fmla="*/ 0 w 1038240"/>
                    <a:gd name="textAreaRight" fmla="*/ 1038600 w 1038240"/>
                    <a:gd name="textAreaTop" fmla="*/ 0 h 1101960"/>
                    <a:gd name="textAreaBottom" fmla="*/ 1102320 h 1101960"/>
                  </a:gdLst>
                  <a:ahLst/>
                  <a:rect l="textAreaLeft" t="textAreaTop" r="textAreaRight" b="textAreaBottom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>
                    <a:gd name="textAreaLeft" fmla="*/ 0 w 576360"/>
                    <a:gd name="textAreaRight" fmla="*/ 576720 w 5763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289080"/>
                    <a:gd name="textAreaBottom" fmla="*/ 289440 h 289080"/>
                  </a:gdLst>
                  <a:ahLst/>
                  <a:rect l="textAreaLeft" t="textAreaTop" r="textAreaRight" b="textAreaBottom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541440"/>
                    <a:gd name="textAreaBottom" fmla="*/ 541440 h 541440"/>
                  </a:gdLst>
                  <a:ahLst/>
                  <a:rect l="textAreaLeft" t="textAreaTop" r="textAreaRight" b="textAreaBottom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>
                    <a:gd name="textAreaLeft" fmla="*/ 0 w 1884240"/>
                    <a:gd name="textAreaRight" fmla="*/ 1884600 w 1884240"/>
                    <a:gd name="textAreaTop" fmla="*/ 0 h 2855880"/>
                    <a:gd name="textAreaBottom" fmla="*/ 2856240 h 2855880"/>
                  </a:gdLst>
                  <a:ahLst/>
                  <a:rect l="textAreaLeft" t="textAreaTop" r="textAreaRight" b="textAreaBottom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09520"/>
                        <a:gd name="textAreaBottom" fmla="*/ 209880 h 209520"/>
                      </a:gdLst>
                      <a:ahLst/>
                      <a:rect l="textAreaLeft" t="textAreaTop" r="textAreaRight" b="textAreaBottom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>
                        <a:gd name="textAreaLeft" fmla="*/ 0 w 149040"/>
                        <a:gd name="textAreaRight" fmla="*/ 149400 w 149040"/>
                        <a:gd name="textAreaTop" fmla="*/ 0 h 370080"/>
                        <a:gd name="textAreaBottom" fmla="*/ 370440 h 370080"/>
                      </a:gdLst>
                      <a:ahLst/>
                      <a:rect l="textAreaLeft" t="textAreaTop" r="textAreaRight" b="textAreaBottom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>
                      <a:gd name="textAreaLeft" fmla="*/ 0 w 835200"/>
                      <a:gd name="textAreaRight" fmla="*/ 835560 w 835200"/>
                      <a:gd name="textAreaTop" fmla="*/ 0 h 619200"/>
                      <a:gd name="textAreaBottom" fmla="*/ 619560 h 619200"/>
                    </a:gdLst>
                    <a:ahLst/>
                    <a:rect l="textAreaLeft" t="textAreaTop" r="textAreaRight" b="textAreaBottom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>
                    <a:gd name="textAreaLeft" fmla="*/ 0 w 3375000"/>
                    <a:gd name="textAreaRight" fmla="*/ 3375360 w 3375000"/>
                    <a:gd name="textAreaTop" fmla="*/ 0 h 2840040"/>
                    <a:gd name="textAreaBottom" fmla="*/ 2840040 h 2840040"/>
                  </a:gdLst>
                  <a:ahLst/>
                  <a:rect l="textAreaLeft" t="textAreaTop" r="textAreaRight" b="textAreaBottom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2695680"/>
                  <a:gd name="textAreaBottom" fmla="*/ 2696040 h 2695680"/>
                </a:gdLst>
                <a:ahLst/>
                <a:rect l="textAreaLeft" t="textAreaTop" r="textAreaRight" b="textAreaBottom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6033-6150-45D6-9C40-794EBDDE5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317520"/>
                      <a:gd name="textAreaBottom" fmla="*/ 317880 h 317520"/>
                    </a:gdLst>
                    <a:ahLst/>
                    <a:rect l="textAreaLeft" t="textAreaTop" r="textAreaRight" b="textAreaBottom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>
                      <a:gd name="textAreaLeft" fmla="*/ 0 w 231840"/>
                      <a:gd name="textAreaRight" fmla="*/ 232200 w 23184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7720"/>
                      <a:gd name="textAreaBottom" fmla="*/ 118080 h 117720"/>
                    </a:gdLst>
                    <a:ahLst/>
                    <a:rect l="textAreaLeft" t="textAreaTop" r="textAreaRight" b="textAreaBottom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>
                      <a:gd name="textAreaLeft" fmla="*/ 0 w 85680"/>
                      <a:gd name="textAreaRight" fmla="*/ 85680 w 856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38240"/>
                      <a:gd name="textAreaBottom" fmla="*/ 138240 h 138240"/>
                    </a:gdLst>
                    <a:ahLst/>
                    <a:rect l="textAreaLeft" t="textAreaTop" r="textAreaRight" b="textAreaBottom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>
                    <a:gd name="textAreaLeft" fmla="*/ 0 w 1038240"/>
                    <a:gd name="textAreaRight" fmla="*/ 1038600 w 1038240"/>
                    <a:gd name="textAreaTop" fmla="*/ 0 h 1101600"/>
                    <a:gd name="textAreaBottom" fmla="*/ 1101960 h 1101600"/>
                  </a:gdLst>
                  <a:ahLst/>
                  <a:rect l="textAreaLeft" t="textAreaTop" r="textAreaRight" b="textAreaBottom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>
                    <a:gd name="textAreaLeft" fmla="*/ 0 w 576360"/>
                    <a:gd name="textAreaRight" fmla="*/ 576720 w 5763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541440"/>
                    <a:gd name="textAreaBottom" fmla="*/ 541440 h 541440"/>
                  </a:gdLst>
                  <a:ahLst/>
                  <a:rect l="textAreaLeft" t="textAreaTop" r="textAreaRight" b="textAreaBottom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>
                    <a:gd name="textAreaLeft" fmla="*/ 0 w 1884240"/>
                    <a:gd name="textAreaRight" fmla="*/ 1884600 w 1884240"/>
                    <a:gd name="textAreaTop" fmla="*/ 0 h 2855880"/>
                    <a:gd name="textAreaBottom" fmla="*/ 2856240 h 2855880"/>
                  </a:gdLst>
                  <a:ahLst/>
                  <a:rect l="textAreaLeft" t="textAreaTop" r="textAreaRight" b="textAreaBottom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09520"/>
                        <a:gd name="textAreaBottom" fmla="*/ 209880 h 209520"/>
                      </a:gdLst>
                      <a:ahLst/>
                      <a:rect l="textAreaLeft" t="textAreaTop" r="textAreaRight" b="textAreaBottom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>
                        <a:gd name="textAreaLeft" fmla="*/ 0 w 149040"/>
                        <a:gd name="textAreaRight" fmla="*/ 149400 w 14904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>
                      <a:gd name="textAreaLeft" fmla="*/ 0 w 835200"/>
                      <a:gd name="textAreaRight" fmla="*/ 835560 w 835200"/>
                      <a:gd name="textAreaTop" fmla="*/ 0 h 619200"/>
                      <a:gd name="textAreaBottom" fmla="*/ 619560 h 619200"/>
                    </a:gdLst>
                    <a:ahLst/>
                    <a:rect l="textAreaLeft" t="textAreaTop" r="textAreaRight" b="textAreaBottom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>
                    <a:gd name="textAreaLeft" fmla="*/ 0 w 3375000"/>
                    <a:gd name="textAreaRight" fmla="*/ 3375360 w 3375000"/>
                    <a:gd name="textAreaTop" fmla="*/ 0 h 2840040"/>
                    <a:gd name="textAreaBottom" fmla="*/ 2840040 h 2840040"/>
                  </a:gdLst>
                  <a:ahLst/>
                  <a:rect l="textAreaLeft" t="textAreaTop" r="textAreaRight" b="textAreaBottom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2460960"/>
                  <a:gd name="textAreaBottom" fmla="*/ 2461320 h 2460960"/>
                </a:gdLst>
                <a:ahLst/>
                <a:rect l="textAreaLeft" t="textAreaTop" r="textAreaRight" b="textAreaBottom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2695320"/>
                  <a:gd name="textAreaBottom" fmla="*/ 2695680 h 2695320"/>
                </a:gdLst>
                <a:ahLst/>
                <a:rect l="textAreaLeft" t="textAreaTop" r="textAreaRight" b="textAreaBottom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0EA7-24A4-4008-84B1-871F4A246062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eginnings of Civi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,700,000 to 587 B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rst Homo Sapie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eanderth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eared 35,000-130,000 years ago (Old Stone Ag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e animal ski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fi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ried their d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o-Magn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eared about 35,000 years a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ve A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xtbo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story les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igio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ree Stone Ag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dd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ld Stone Age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chennaimuseum.org/.../ 02/05/prehist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y crude 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ones used to throw at anim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6" descr="old stone age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ddle Stone Age 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dungarvanmuseum.org/ index.cgi?art_id=5&amp;pa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esolithic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0,000 to 5,500 years a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only use stones but b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ws and arrow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sh hoo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rpo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6" descr="midd stone age"/>
          <p:cNvPicPr/>
          <p:nvPr/>
        </p:nvPicPr>
        <p:blipFill>
          <a:blip r:embed="rId1"/>
          <a:stretch/>
        </p:blipFill>
        <p:spPr>
          <a:xfrm>
            <a:off x="906480" y="1981080"/>
            <a:ext cx="336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Stone Age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turizm.net/turkey/ history/neolithic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eolithic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ment of Agricul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mestication of animals/plants for f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6" descr="neolithic"/>
          <p:cNvPicPr/>
          <p:nvPr/>
        </p:nvPicPr>
        <p:blipFill>
          <a:blip r:embed="rId1"/>
          <a:stretch/>
        </p:blipFill>
        <p:spPr>
          <a:xfrm>
            <a:off x="5025960" y="1981080"/>
            <a:ext cx="305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racteristics of the Evolution of Civi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riculture to Surplus Produ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ople began to grow more food than they would need – allowed people to do things other than far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stablishment of Towns/Citie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 surplus populations could gr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ies now could be lar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286000" y="1447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turizm.net/turkey/ history/neolithic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Picture 7" descr="town"/>
          <p:cNvPicPr/>
          <p:nvPr/>
        </p:nvPicPr>
        <p:blipFill>
          <a:blip r:embed="rId1"/>
          <a:stretch/>
        </p:blipFill>
        <p:spPr>
          <a:xfrm>
            <a:off x="4869000" y="1981080"/>
            <a:ext cx="336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vision of Labor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jupiter.fl.us/.../ BuildingSafety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owns/cities people could specialize in one job or an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9" name="Picture 6" descr="workers"/>
          <p:cNvPicPr/>
          <p:nvPr/>
        </p:nvPicPr>
        <p:blipFill>
          <a:blip r:embed="rId1"/>
          <a:stretch/>
        </p:blipFill>
        <p:spPr>
          <a:xfrm>
            <a:off x="790560" y="1981080"/>
            <a:ext cx="360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volution of Civi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sser Characterist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loration of Prehis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lendar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hcc-nd.edu/images/ Calendars-Oct03.g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ed to track seasons for planting/harvesting and migrations (if need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7" descr="cal"/>
          <p:cNvPicPr/>
          <p:nvPr/>
        </p:nvPicPr>
        <p:blipFill>
          <a:blip r:embed="rId1"/>
          <a:stretch/>
        </p:blipFill>
        <p:spPr>
          <a:xfrm>
            <a:off x="4648320" y="2511360"/>
            <a:ext cx="3809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m of Writing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mrspock.marion.ohio-state.edu/.../ cuneiform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ed for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rly forms were cumbersome with too many symbols – became better as time p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7" name="Picture 6" descr="writig"/>
          <p:cNvPicPr/>
          <p:nvPr/>
        </p:nvPicPr>
        <p:blipFill>
          <a:blip r:embed="rId1"/>
          <a:stretch/>
        </p:blipFill>
        <p:spPr>
          <a:xfrm>
            <a:off x="685800" y="2282760"/>
            <a:ext cx="38098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velopment of Metal Ag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onze Age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domino.kappa.ro/.../ ist_ilustrata/$file/4.jp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ed as an alloy of copper and t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ly made into 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akness: not strong enoug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6" descr="bron"/>
          <p:cNvPicPr/>
          <p:nvPr/>
        </p:nvPicPr>
        <p:blipFill>
          <a:blip r:embed="rId1"/>
          <a:stretch/>
        </p:blipFill>
        <p:spPr>
          <a:xfrm>
            <a:off x="1123920" y="1981080"/>
            <a:ext cx="293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ron Age</a:t>
            </a:r>
            <a:br>
              <a:rPr sz="4400"/>
            </a:br>
            <a:r>
              <a:rPr b="0" lang="en-US" sz="1200" spc="-1" strike="noStrike">
                <a:solidFill>
                  <a:srgbClr val="008000"/>
                </a:solidFill>
                <a:latin typeface="Arial"/>
                <a:ea typeface="Arial"/>
              </a:rPr>
              <a:t>www.hants.gov.uk/museum/ ironagem/reception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ron was smelted (melted) from iron o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ch stronger than bronz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ve those who possessed iron weapons a huge advantage over those who did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Picture 6" descr="iron"/>
          <p:cNvPicPr/>
          <p:nvPr/>
        </p:nvPicPr>
        <p:blipFill>
          <a:blip r:embed="rId1"/>
          <a:stretch/>
        </p:blipFill>
        <p:spPr>
          <a:xfrm>
            <a:off x="5238720" y="1981080"/>
            <a:ext cx="2629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rly Civiliz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i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:  Role of the N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ivilization found upon the Nile River Vall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ile River is the longest river flowing north in the Wor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2" name="Picture 6" descr="nile_map"/>
          <p:cNvPicPr/>
          <p:nvPr/>
        </p:nvPicPr>
        <p:blipFill>
          <a:blip r:embed="rId1"/>
          <a:stretch/>
        </p:blipFill>
        <p:spPr>
          <a:xfrm>
            <a:off x="4676760" y="1981080"/>
            <a:ext cx="37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ile Ri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ws northward – divided into two part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Egypt (Sout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Egypt (Nort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iginates at Lake Victo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tara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rrounded by two deser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ws into delta – then into the Mediterrane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5" name="Picture 12" descr="ancient_egypt"/>
          <p:cNvPicPr/>
          <p:nvPr/>
        </p:nvPicPr>
        <p:blipFill>
          <a:blip r:embed="rId1"/>
          <a:stretch/>
        </p:blipFill>
        <p:spPr>
          <a:xfrm>
            <a:off x="979560" y="1981080"/>
            <a:ext cx="322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ile River:  Lifeblood of Egypt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wwnorton.com/.../ nawol/maps/MAP3EGYP.JP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ile River floods yearly leaving silt in valleys adjacent to River – provide fertile so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&lt; Flooding – Bad cro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&gt; Flooding – Villages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wept aw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8" name="Picture 9" descr="-Flood"/>
          <p:cNvPicPr/>
          <p:nvPr/>
        </p:nvPicPr>
        <p:blipFill>
          <a:blip r:embed="rId1"/>
          <a:stretch/>
        </p:blipFill>
        <p:spPr>
          <a:xfrm>
            <a:off x="5202360" y="1981080"/>
            <a:ext cx="270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inids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houseofcanes.com/ ordinfo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characterist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lk uprigh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Picture 9" descr="homonids"/>
          <p:cNvPicPr/>
          <p:nvPr/>
        </p:nvPicPr>
        <p:blipFill>
          <a:blip r:embed="rId1"/>
          <a:stretch/>
        </p:blipFill>
        <p:spPr>
          <a:xfrm>
            <a:off x="4876920" y="1981080"/>
            <a:ext cx="340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 moves toward Civilization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stro.temple.edu/ ~rguay/rosetta%20stone.jpg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000 B.C. – Hieroglyphics develop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nguage artists have been able to translate the Hieroglyphics with use of the Rosetta St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1" name="Picture 7" descr="rosetta%20stone"/>
          <p:cNvPicPr/>
          <p:nvPr/>
        </p:nvPicPr>
        <p:blipFill>
          <a:blip r:embed="rId1"/>
          <a:stretch/>
        </p:blipFill>
        <p:spPr>
          <a:xfrm>
            <a:off x="5105520" y="2286000"/>
            <a:ext cx="2948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ian Kingdo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nes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embers.tripodnet.nl/ ancientegypt/history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tes Upper (southern) and Lower (northern) Egypt in 3200 B.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gins the first of  30 dynasties of Egyp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6" name="Picture 6" descr="Menes"/>
          <p:cNvPicPr/>
          <p:nvPr/>
        </p:nvPicPr>
        <p:blipFill>
          <a:blip r:embed="rId1"/>
          <a:stretch/>
        </p:blipFill>
        <p:spPr>
          <a:xfrm>
            <a:off x="5141880" y="1981080"/>
            <a:ext cx="282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ld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80 B.C. to 2180 B. 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hievements in Arts and Science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astro.utoronto.ca/ ~yao/egypt1999/sphinx.g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Great Sphin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" name="Picture 6" descr="Great"/>
          <p:cNvPicPr/>
          <p:nvPr/>
        </p:nvPicPr>
        <p:blipFill>
          <a:blip r:embed="rId1"/>
          <a:stretch/>
        </p:blipFill>
        <p:spPr>
          <a:xfrm>
            <a:off x="4648320" y="2989440"/>
            <a:ext cx="38098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Old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soc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wer:  Peasants and Farm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pper:  Pharaoh, the Royal Family, Priests, Scribes, and Government Offic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end of dynasty the pharaohs became weaker and the nobles grew stron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olutions began probably because of famine and lack of f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rst Intermediate Perio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ted from 2180 B.C. to 2050 B.C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period marked by many civil wa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od ends as new line of pharaoh comes to pow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iddle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050 B.C. to 1650 B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ddle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idered the “golden age” of Egyp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ble and Priests begin to challenge the power of the Pharaoh – led to insta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od also marked by invasions of Hyks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putes arise over how devastating the Hyksos invasion was on the Egypti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ksos did bring in new tools of warfare: the chariot and compound bo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ond Intermediate Perio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gins as Hyksos gain control of all of Egypt – probably because of the weakness of Egyp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od ends as new line of rulers come to pow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le of Artifacts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texasbeyondhistory.net/ rubin/images/artif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t us know more about ancient cul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what limited – theories have formed to attempt to explain the p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6" descr="artifacts"/>
          <p:cNvPicPr/>
          <p:nvPr/>
        </p:nvPicPr>
        <p:blipFill>
          <a:blip r:embed="rId1"/>
          <a:stretch/>
        </p:blipFill>
        <p:spPr>
          <a:xfrm>
            <a:off x="828720" y="1981080"/>
            <a:ext cx="3522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w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570 B.C. to 1080 B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ingdom centered around their capital, Theb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ove the Hyksos out of Egypt with use of a strong arm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gin to build an empi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trongest of the rulers were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atshepsut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antropos.galeon.com/ html/FARAON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female to ever hold the title of Pharoa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chnically co-ruler – with her 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pt empire’s boundaries secure and built tr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Picture 6" descr="hat"/>
          <p:cNvPicPr/>
          <p:nvPr/>
        </p:nvPicPr>
        <p:blipFill>
          <a:blip r:embed="rId1"/>
          <a:stretch/>
        </p:blipFill>
        <p:spPr>
          <a:xfrm>
            <a:off x="4960800" y="1981080"/>
            <a:ext cx="318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utmose III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fruitofthenile.com/ tuthiii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epson of Hatsheps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inued trend of m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anded Egypt’s territory to its largest extent until his death in 1450 B.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1" name="Picture 6" descr="tht"/>
          <p:cNvPicPr/>
          <p:nvPr/>
        </p:nvPicPr>
        <p:blipFill>
          <a:blip r:embed="rId1"/>
          <a:stretch/>
        </p:blipFill>
        <p:spPr>
          <a:xfrm>
            <a:off x="1042920" y="1981080"/>
            <a:ext cx="309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menhotep IV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fertiti.iwebland.com/ portraiture/18d/amenho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monotheistical leader of Eygp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in the sun god, A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nged name to Akhena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fter his death, Egypt returns to polytheis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4" name="Picture 6" descr="amen"/>
          <p:cNvPicPr/>
          <p:nvPr/>
        </p:nvPicPr>
        <p:blipFill>
          <a:blip r:embed="rId1"/>
          <a:stretch/>
        </p:blipFill>
        <p:spPr>
          <a:xfrm>
            <a:off x="4951440" y="1981080"/>
            <a:ext cx="320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amses II (the Great)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orums.tactical-ops.de/ showthread.php?t=5906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d from 1279 B.C. to 1215 B.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eat Buil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idered to be the pharoah at the time of the Exod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er pharoahs were wea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7" name="Picture 6" descr="r"/>
          <p:cNvPicPr/>
          <p:nvPr/>
        </p:nvPicPr>
        <p:blipFill>
          <a:blip r:embed="rId1"/>
          <a:stretch/>
        </p:blipFill>
        <p:spPr>
          <a:xfrm>
            <a:off x="685800" y="2176560"/>
            <a:ext cx="38098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ian Achieve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s and Architecture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orum.paradoxplaza.com/ forum/showthread.php?g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yramids – close to perfect symmet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as tombs for the pharoa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6" descr="p"/>
          <p:cNvPicPr/>
          <p:nvPr/>
        </p:nvPicPr>
        <p:blipFill>
          <a:blip r:embed="rId1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ience, Math, and Medic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ised a 365 day calend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d numbering system based on 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d herbs for medicinal purp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mmification – preservation of de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oples of the Fertile Cresc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84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Lucy</a:t>
            </a:r>
            <a:br>
              <a:rPr sz="5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www.pbs.org/saf/ 1105/features/eureka3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est human-like skeletal remains ever fou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-4 Million Years 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nd in Afr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overy has been questioned lately over the species of the fi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6" descr="images"/>
          <p:cNvPicPr/>
          <p:nvPr/>
        </p:nvPicPr>
        <p:blipFill>
          <a:blip r:embed="rId1"/>
          <a:stretch/>
        </p:blipFill>
        <p:spPr>
          <a:xfrm>
            <a:off x="5721480" y="1981080"/>
            <a:ext cx="1662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rtile Crescent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xenohistorian.faithweb.com/ worldhis/Hist02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tuated along the Tigris-Euphrates River vall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ch like Egypt in that it needed rivers to flood for irrig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vers begin in mountains of Turkey and flow into the Persian Gu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9" name="Picture 6" descr="fc"/>
          <p:cNvPicPr/>
          <p:nvPr/>
        </p:nvPicPr>
        <p:blipFill>
          <a:blip r:embed="rId1"/>
          <a:stretch/>
        </p:blipFill>
        <p:spPr>
          <a:xfrm>
            <a:off x="4648320" y="2819520"/>
            <a:ext cx="3809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eri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cated in Sum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nei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ds were forces of nature and heavenly bod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kkadian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ww.utexas.edu/courses/ clubmed/sargon.jpg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or leader was Sarg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334 B.C. to 2279 B.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kkadian empire lasted 150 yea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5" name="Picture 7" descr="sargon"/>
          <p:cNvPicPr/>
          <p:nvPr/>
        </p:nvPicPr>
        <p:blipFill>
          <a:blip r:embed="rId1"/>
          <a:stretch/>
        </p:blipFill>
        <p:spPr>
          <a:xfrm>
            <a:off x="1150920" y="1981080"/>
            <a:ext cx="287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bylonian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ww.globalsecurity.org/.../ images/hammurabi.jp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eatest Leader – Hammurab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de of Hammura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ule from 1792 B.C.t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ch like the Sumerians in many w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8" name="Picture 7" descr="hammurabi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hammurabi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4"/>
          <p:cNvSpPr/>
          <p:nvPr/>
        </p:nvSpPr>
        <p:spPr>
          <a:xfrm>
            <a:off x="2209680" y="6248520"/>
            <a:ext cx="914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ales.cica.es/.../ HisArtLit/01/hammurabi.jpg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ttite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fertiti.iwebland.com/ hittites.jpg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li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mong first peoples to smelt ir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re from Asia Min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vaded Babylonian area around 1600 B.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3" name="Picture 7" descr="hittites"/>
          <p:cNvPicPr/>
          <p:nvPr/>
        </p:nvPicPr>
        <p:blipFill>
          <a:blip r:embed="rId1"/>
          <a:stretch/>
        </p:blipFill>
        <p:spPr>
          <a:xfrm>
            <a:off x="849240" y="1981080"/>
            <a:ext cx="348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hittites_reg"/>
          <p:cNvPicPr/>
          <p:nvPr/>
        </p:nvPicPr>
        <p:blipFill>
          <a:blip r:embed="rId1"/>
          <a:stretch/>
        </p:blipFill>
        <p:spPr>
          <a:xfrm>
            <a:off x="1523880" y="762120"/>
            <a:ext cx="6137280" cy="46069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438280" y="563868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ww.sarissa.org/ images/hittites_reg.jpg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yrian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mbers.shaw.ca/ scud/assyrians.jp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rior li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people to use chariots and cavalry in batt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to effectively rule a large empi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ital was Ninev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7" descr="assyrians"/>
          <p:cNvPicPr/>
          <p:nvPr/>
        </p:nvPicPr>
        <p:blipFill>
          <a:blip r:embed="rId1"/>
          <a:stretch/>
        </p:blipFill>
        <p:spPr>
          <a:xfrm>
            <a:off x="4648320" y="2655720"/>
            <a:ext cx="38098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map_assyrian_empire_700_bc"/>
          <p:cNvPicPr/>
          <p:nvPr/>
        </p:nvPicPr>
        <p:blipFill>
          <a:blip r:embed="rId1"/>
          <a:stretch/>
        </p:blipFill>
        <p:spPr>
          <a:xfrm>
            <a:off x="990720" y="304920"/>
            <a:ext cx="7386480" cy="55386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1355760" y="6058080"/>
            <a:ext cx="649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2133720" y="6019920"/>
            <a:ext cx="5410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bible-history.com/ people/assyrians/map_as..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ldean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ww.cts.edu/.../Images/ oldtest/TissNebu.jpg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st leader was Nebuchadnezz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nging Gardens of Babyl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iblical stor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illed astrolog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lculated the length of a y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eated by the Persi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4" name="Picture 7" descr="TissNebu"/>
          <p:cNvPicPr/>
          <p:nvPr/>
        </p:nvPicPr>
        <p:blipFill>
          <a:blip r:embed="rId1"/>
          <a:stretch/>
        </p:blipFill>
        <p:spPr>
          <a:xfrm>
            <a:off x="1498680" y="1981080"/>
            <a:ext cx="218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rst Humans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sonoma.edu/.../ anclub/neanderfacts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werful ja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eding chi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w forehea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eavy eyebrow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6" descr="first 1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7hanging"/>
          <p:cNvPicPr/>
          <p:nvPr/>
        </p:nvPicPr>
        <p:blipFill>
          <a:blip r:embed="rId1"/>
          <a:stretch/>
        </p:blipFill>
        <p:spPr>
          <a:xfrm>
            <a:off x="685800" y="304920"/>
            <a:ext cx="7907400" cy="521784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1965240" y="5753160"/>
            <a:ext cx="542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981080" y="579132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ww.faculty.fairfield.edu/ jmac/rs/7hanging.gi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rsi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st lead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yrus***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ri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erx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pt large empi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ilt extensive road sy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igious belief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sian army defeated by Alexander the Great (Macedonia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Picture 7" descr="cyrus"/>
          <p:cNvPicPr/>
          <p:nvPr/>
        </p:nvPicPr>
        <p:blipFill>
          <a:blip r:embed="rId1"/>
          <a:stretch/>
        </p:blipFill>
        <p:spPr>
          <a:xfrm>
            <a:off x="483876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e First Humans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public.iastate.edu/ ~cfford/342ggsintro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unter/gather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mad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veled in clans of 40-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 hunted while women gathered nuts/berries/see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6" descr="first"/>
          <p:cNvPicPr/>
          <p:nvPr/>
        </p:nvPicPr>
        <p:blipFill>
          <a:blip r:embed="rId1"/>
          <a:stretch/>
        </p:blipFill>
        <p:spPr>
          <a:xfrm>
            <a:off x="4824360" y="1981080"/>
            <a:ext cx="34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o Sapiens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fossils-as-art.com/ images/0200.jp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eared on the scene between 100,000 and 400,000 years a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homosapiens"/>
          <p:cNvPicPr/>
          <p:nvPr/>
        </p:nvPicPr>
        <p:blipFill>
          <a:blip r:embed="rId1"/>
          <a:stretch/>
        </p:blipFill>
        <p:spPr>
          <a:xfrm>
            <a:off x="1023840" y="1981080"/>
            <a:ext cx="313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ce Ages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salzburg.com/ freizeit/185_3920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ral over 1.7 million yea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m era that we live in today started about 10,000 years ago – coincides with last ice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6" descr="iceage"/>
          <p:cNvPicPr/>
          <p:nvPr/>
        </p:nvPicPr>
        <p:blipFill>
          <a:blip r:embed="rId1"/>
          <a:stretch/>
        </p:blipFill>
        <p:spPr>
          <a:xfrm>
            <a:off x="4560840" y="1981080"/>
            <a:ext cx="352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15:04:05Z</dcterms:created>
  <dc:creator>West Iredell High School</dc:creator>
  <dc:description/>
  <dc:language>en-US</dc:language>
  <cp:lastModifiedBy>SJCSD</cp:lastModifiedBy>
  <dcterms:modified xsi:type="dcterms:W3CDTF">2010-08-20T13:23:50Z</dcterms:modified>
  <cp:revision>15</cp:revision>
  <dc:subject/>
  <dc:title>Unit 1</dc:title>
</cp:coreProperties>
</file>